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84C1-8F37-42DF-9561-3A9F3C42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5871-A949-4AA0-BA99-F95251C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19DE-2978-43CA-9766-BC5090CB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DE61-B4A1-4647-BB20-54DB3AED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744-B3A4-497E-91B3-AE56E9FC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7A8D-676A-4CA5-85E4-F522A309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9F22-A658-4AF3-92B0-32E1A47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6B43-E5CD-409C-A064-9A807AD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0655-B462-4EDA-B771-F8517D01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743E-4473-40A0-9EA9-B9C5B223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1D9E-01AA-410C-B8D4-622B971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34AD-9EA2-4C10-859C-E4B1793B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1528-037E-4C32-B753-9B5744A8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68F3-0FE9-47A1-AA43-3E7FBDF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BF62-DF67-435C-8874-485B6A7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E84A-24A6-4A13-87A0-FDB97A57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502A-2DB2-4141-85FD-5A70E312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5C8C-191B-4758-B50B-018F371C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0435-D11D-4FD0-95CC-42AE3AC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E777-8521-488C-B315-23F6F6FD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B77A-74EF-4D84-A8A1-1751F85C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4971-B7B4-4406-968E-C29F341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7061-84EB-47F1-9F2F-A05B8646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8737-AED1-4FC0-9970-5AFC5D15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9A3-954F-43EC-A69F-EB1B835062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9BD-0D6E-4899-87A2-BE6359E3A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aidherbe.org/site/cours/dupuis/banque.ht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faidherbe.org/site/cours/dupuis/banque.htm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7 + 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emical Bon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mel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oil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4583160" y="1447920"/>
            <a:ext cx="4287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l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 of the attraction of the free-floating valence electrons for the positively charged metal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the forces of attraction that hold metals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l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re among the simplest crystalline solids because each metal contains one kind of atom that are arranged in compact and orderly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-centered cub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very atom has 8 neighbors (except those on the surf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centered cub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very atom has 12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xagonal close-pack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very atom has 12 neighbors, but the pattern is different from face-centered cub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l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ct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be all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43480" y="2952720"/>
            <a:ext cx="2648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Bonds- formed through sharing of electrons betwe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Covalent Bonds- formed through sharing on one PAIR of 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and Triple Covalent Bonds- formed through sharing of 2 or 3 e-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Covalent Bonds- formed when 1 atom contributes sha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7816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wis Struc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electron dot structures)- represent 2D shape of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otal # of valence e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“central” atom ( not H, usually not halogen, usually lowest electronega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2 dots to bond each outer atom to the central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dots used in #3 from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maining e- (in pairs) to fill octets of all atoms (H only wants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enough e-, form double/trip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 to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vs. diamagnetic- para represents lone electrons and dia is for electron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exceptions: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EPR-Valence Shell Electron Pair Repul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s shape by assuming electrons repel one another and spread out in 3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CO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962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SO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1981080"/>
            <a:ext cx="25146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 and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formed by “donation” of electrons from a (+) ion to a (-)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K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- donates e- to achieve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: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- accepts e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PR Shape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371600"/>
          <a:ext cx="8381880" cy="4886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ded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e Electron Pai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onal Pla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onal Pyramid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hedr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Molecular P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&amp; visualize 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direction of polarity of bonds using electronegativit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-0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onpolar co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1-1.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olar co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1-3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ree e- pa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symmetry of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10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Dip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lectronegativity means that atom is slightly more negative tha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3989520"/>
            <a:ext cx="8229600" cy="187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Bond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orbitals form when atomic orbitals overl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3117960"/>
            <a:ext cx="72392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op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 dot struc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valence electrons as dots with the inner electrons and the atomic nuclei are represented by the symbol for the element being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s of attraction that bind oppositely charged ions together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ic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ly neutral groups of ions joined by electrostatic forces (also called sa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harges of the cations must equal the negative charges of the a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An ionic bond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Ion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Compounds- repeating formula units in 3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ot structures to describe the formula units formed between the following ato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&amp;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 &amp;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&amp;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t cell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part of a crystal system that retains the crystal’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 systems- 7 know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tr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rhom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mbo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3680" y="1981080"/>
            <a:ext cx="402588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each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is surrounded by  6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coordination number of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on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the number of ions of opposite charge that surround each ion in a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2:43:27Z</dcterms:created>
  <dc:creator>Leanne Vogelsong</dc:creator>
  <dc:description/>
  <dc:language>en-US</dc:language>
  <cp:lastModifiedBy>Dawn Pav</cp:lastModifiedBy>
  <dcterms:modified xsi:type="dcterms:W3CDTF">2010-12-06T02:26:04Z</dcterms:modified>
  <cp:revision>52</cp:revision>
  <dc:subject/>
  <dc:title>Chapter 14</dc:title>
</cp:coreProperties>
</file>